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7.png" ContentType="image/png"/>
  <Override PartName="/ppt/media/drumroll.wav" ContentType="audio/x-wav"/>
  <Override PartName="/ppt/media/image1.png" ContentType="image/png"/>
  <Override PartName="/ppt/media/image8.png" ContentType="image/png"/>
  <Override PartName="/ppt/media/image2.wmf" ContentType="image/x-wmf"/>
  <Override PartName="/ppt/media/image3.png" ContentType="image/png"/>
  <Override PartName="/ppt/media/chimes.wav" ContentType="audio/x-wav"/>
  <Override PartName="/ppt/media/clap.wav" ContentType="audio/x-wav"/>
  <Override PartName="/ppt/media/image4.wmf" ContentType="image/x-wmf"/>
  <Override PartName="/ppt/media/applause.wav" ContentType="audio/x-wav"/>
  <Override PartName="/ppt/media/glass.wav" ContentType="audio/x-wav"/>
  <Override PartName="/ppt/media/image5.wmf" ContentType="image/x-wmf"/>
  <Override PartName="/ppt/media/explode.wav" ContentType="audio/x-wav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9CD8-2E40-4F54-BD2C-540D7AF49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02E8-7CAF-4D84-905B-16BC3406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1314-491D-40FD-8E9A-6FB46614F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5BDC-A5F5-45B7-BD22-09F3D8CFD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A0DA-D17E-46CA-BFF1-697F6265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3975-2F98-45C8-83B8-9057DD9F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30B3-FF34-4618-869E-5BFE9D42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76DA-69DB-4C21-86E4-C6C0CAEB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DD39-68B4-4C8D-B3AD-51F8E743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A696-DD46-4A6D-BBED-5E9C8DDB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2AA7-A502-4373-8FB8-CBCFE518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9DAF-E16F-4631-96CD-162C346F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A639-48BD-44ED-BAD0-E705A3625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.wmf"/><Relationship Id="rId11" Type="http://schemas.openxmlformats.org/officeDocument/2006/relationships/image" Target="../media/image8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audio" Target="../media/clap.wav"/><Relationship Id="rId8" Type="http://schemas.openxmlformats.org/officeDocument/2006/relationships/audio" Target="../media/clap.wav"/><Relationship Id="rId9" Type="http://schemas.openxmlformats.org/officeDocument/2006/relationships/audio" Target="../media/clap.wav"/><Relationship Id="rId10" Type="http://schemas.openxmlformats.org/officeDocument/2006/relationships/audio" Target="../media/clap.wav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audio" Target="../media/clap.wav"/><Relationship Id="rId8" Type="http://schemas.openxmlformats.org/officeDocument/2006/relationships/audio" Target="../media/clap.wav"/><Relationship Id="rId9" Type="http://schemas.openxmlformats.org/officeDocument/2006/relationships/audio" Target="../media/clap.wav"/><Relationship Id="rId10" Type="http://schemas.openxmlformats.org/officeDocument/2006/relationships/audio" Target="../media/clap.wav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838080"/>
            <a:ext cx="7315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</a:rPr>
              <a:t>What am I going to do toda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133720"/>
            <a:ext cx="701064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800000"/>
                </a:solidFill>
                <a:latin typeface="Times New Roman"/>
              </a:rPr>
              <a:t>Learn to ask the way to eight places in French and understand directi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800000"/>
                </a:solidFill>
                <a:latin typeface="Times New Roman"/>
              </a:rPr>
              <a:t>Learn why certain words are pronounced in a particular w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438280" y="609480"/>
            <a:ext cx="472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e ciném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38280" y="1600200"/>
            <a:ext cx="472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e caf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38280" y="2514600"/>
            <a:ext cx="472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e collèg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38280" y="3505320"/>
            <a:ext cx="472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e par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257480" y="762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a boulangeri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1828800"/>
            <a:ext cx="533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a post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81952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a ga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3809880"/>
            <a:ext cx="563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a pisci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1752480" cy="144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4724280" y="990720"/>
          <a:ext cx="1905120" cy="144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990720"/>
                    <a:ext cx="190512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2602080" y="990720"/>
            <a:ext cx="1969920" cy="144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" name=""/>
          <p:cNvGraphicFramePr/>
          <p:nvPr/>
        </p:nvGraphicFramePr>
        <p:xfrm>
          <a:off x="6705720" y="1143000"/>
          <a:ext cx="182880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1143000"/>
                    <a:ext cx="18288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2743200" y="3429000"/>
          <a:ext cx="1828800" cy="144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3429000"/>
                    <a:ext cx="18288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762120" y="3429000"/>
          <a:ext cx="1828800" cy="1447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120" y="3429000"/>
                    <a:ext cx="18288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1" name="" descr=""/>
          <p:cNvPicPr/>
          <p:nvPr/>
        </p:nvPicPr>
        <p:blipFill>
          <a:blip r:embed="rId11"/>
          <a:stretch/>
        </p:blipFill>
        <p:spPr>
          <a:xfrm>
            <a:off x="4724280" y="3429000"/>
            <a:ext cx="1828800" cy="1143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2"/>
          <a:stretch/>
        </p:blipFill>
        <p:spPr>
          <a:xfrm>
            <a:off x="6781680" y="34290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38080" y="2590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e ciné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2590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e collè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5029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a g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5029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a pisc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76920" y="2590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e caf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24280" y="50292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a boulange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0" y="2590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e pa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5029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a po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52480" y="106668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505320" y="129528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e cinéma, 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s’il vous plaî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52480" y="2362320"/>
            <a:ext cx="1371600" cy="1066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505320" y="25909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e collège, 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s’il vous plaî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676520" y="3657600"/>
          <a:ext cx="1447560" cy="12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3657600"/>
                    <a:ext cx="144756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3505320" y="3886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e café, 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s’il vous plaî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600200" y="5029200"/>
          <a:ext cx="144792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5029200"/>
                    <a:ext cx="14479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3505320" y="54100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e parc, 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s’il vous plaî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1600200" y="1066680"/>
          <a:ext cx="16002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06668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600200" y="2362320"/>
          <a:ext cx="152388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2362320"/>
                    <a:ext cx="15238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1447920" y="3657600"/>
            <a:ext cx="1828800" cy="1143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1523880" y="4876920"/>
            <a:ext cx="1676520" cy="10666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733920" y="137160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a piscine,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 s’il vous plaî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2438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a gare,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 s’il vous plaî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9880" y="39625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a boulangerie,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 s’il vous plaî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51055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a poste,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 s’il vous plaî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657600" y="685800"/>
            <a:ext cx="1828800" cy="3124080"/>
          </a:xfrm>
          <a:prstGeom prst="upArrow">
            <a:avLst>
              <a:gd name="adj1" fmla="val 50000"/>
              <a:gd name="adj2" fmla="val 4270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441972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Allez tout droi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438280" y="1371600"/>
            <a:ext cx="4267440" cy="2057400"/>
          </a:xfrm>
          <a:prstGeom prst="leftArrow">
            <a:avLst>
              <a:gd name="adj1" fmla="val 50000"/>
              <a:gd name="adj2" fmla="val 5185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4191120"/>
            <a:ext cx="57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Tournez à gauch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905120" y="441972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Tournez à droit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24160" y="1295280"/>
            <a:ext cx="4495680" cy="2133720"/>
          </a:xfrm>
          <a:prstGeom prst="rightArrow">
            <a:avLst>
              <a:gd name="adj1" fmla="val 50000"/>
              <a:gd name="adj2" fmla="val 526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1676520" cy="1066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752480" y="2057400"/>
            <a:ext cx="1828800" cy="1143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981080" y="3657600"/>
            <a:ext cx="13716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"/>
          <p:cNvGraphicFramePr/>
          <p:nvPr/>
        </p:nvGraphicFramePr>
        <p:xfrm>
          <a:off x="1981080" y="4876920"/>
          <a:ext cx="1447920" cy="11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4876920"/>
                    <a:ext cx="14479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4572000" y="609480"/>
            <a:ext cx="1905120" cy="1067040"/>
          </a:xfrm>
          <a:prstGeom prst="rightArrow">
            <a:avLst>
              <a:gd name="adj1" fmla="val 50000"/>
              <a:gd name="adj2" fmla="val 4463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5105520"/>
            <a:ext cx="1676520" cy="990360"/>
          </a:xfrm>
          <a:prstGeom prst="leftArrow">
            <a:avLst>
              <a:gd name="adj1" fmla="val 50000"/>
              <a:gd name="adj2" fmla="val 4232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1981080"/>
            <a:ext cx="990720" cy="1600200"/>
          </a:xfrm>
          <a:prstGeom prst="upArrow">
            <a:avLst>
              <a:gd name="adj1" fmla="val 50000"/>
              <a:gd name="adj2" fmla="val 4038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3657600"/>
            <a:ext cx="1905120" cy="1066680"/>
          </a:xfrm>
          <a:prstGeom prst="rightArrow">
            <a:avLst>
              <a:gd name="adj1" fmla="val 50000"/>
              <a:gd name="adj2" fmla="val 4465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2362320" y="533520"/>
          <a:ext cx="1447560" cy="121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533520"/>
                    <a:ext cx="14475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2362320" y="2057400"/>
          <a:ext cx="1523880" cy="12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2057400"/>
                    <a:ext cx="152388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2362320" y="3657600"/>
            <a:ext cx="13716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2286000" y="5105520"/>
          <a:ext cx="1600200" cy="1143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86000" y="510552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4572000" y="609480"/>
            <a:ext cx="1676520" cy="990720"/>
          </a:xfrm>
          <a:prstGeom prst="leftArrow">
            <a:avLst>
              <a:gd name="adj1" fmla="val 50000"/>
              <a:gd name="adj2" fmla="val 4230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1905120"/>
            <a:ext cx="1066680" cy="1523880"/>
          </a:xfrm>
          <a:prstGeom prst="upArrow">
            <a:avLst>
              <a:gd name="adj1" fmla="val 50000"/>
              <a:gd name="adj2" fmla="val 3571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3657600"/>
            <a:ext cx="1905120" cy="1066680"/>
          </a:xfrm>
          <a:prstGeom prst="rightArrow">
            <a:avLst>
              <a:gd name="adj1" fmla="val 50000"/>
              <a:gd name="adj2" fmla="val 4465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5105520"/>
            <a:ext cx="1676520" cy="990360"/>
          </a:xfrm>
          <a:prstGeom prst="leftArrow">
            <a:avLst>
              <a:gd name="adj1" fmla="val 50000"/>
              <a:gd name="adj2" fmla="val 4232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38880" y="3429000"/>
            <a:ext cx="1067040" cy="1523880"/>
          </a:xfrm>
          <a:prstGeom prst="upArrow">
            <a:avLst>
              <a:gd name="adj1" fmla="val 50000"/>
              <a:gd name="adj2" fmla="val 3570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81680" y="5029200"/>
            <a:ext cx="1905120" cy="1066680"/>
          </a:xfrm>
          <a:prstGeom prst="rightArrow">
            <a:avLst>
              <a:gd name="adj1" fmla="val 50000"/>
              <a:gd name="adj2" fmla="val 4465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33440" y="533520"/>
            <a:ext cx="4677120" cy="3809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71600" y="464832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Le ciném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133720" y="53352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Times New Roman"/>
              </a:rPr>
              <a:t>Où est ….?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Where 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676520"/>
            <a:ext cx="35049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1674720"/>
            <a:ext cx="3276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Times New Roman"/>
              </a:rPr>
              <a:t>Où es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e ciném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e collèg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e café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e par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1674720"/>
            <a:ext cx="3276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Times New Roman"/>
              </a:rPr>
              <a:t>Où es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a pisci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a g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a boulangeri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a pos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828800" y="2971800"/>
            <a:ext cx="1066680" cy="1828800"/>
          </a:xfrm>
          <a:prstGeom prst="upArrow">
            <a:avLst>
              <a:gd name="adj1" fmla="val 50000"/>
              <a:gd name="adj2" fmla="val 4286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57600" y="16002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Times New Roman"/>
              </a:rPr>
              <a:t>Où est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le ciném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9880" y="34290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llez tout dro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2133720" y="1447920"/>
          <a:ext cx="1523880" cy="121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447920"/>
                    <a:ext cx="152388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1905120" y="3429000"/>
            <a:ext cx="1676160" cy="990720"/>
          </a:xfrm>
          <a:prstGeom prst="leftArrow">
            <a:avLst>
              <a:gd name="adj1" fmla="val 50000"/>
              <a:gd name="adj2" fmla="val 4229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14800" y="16765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Times New Roman"/>
              </a:rPr>
              <a:t>Où est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la ga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14800" y="34290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ournez à gauch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2057400" y="1447920"/>
          <a:ext cx="1447920" cy="121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447920"/>
                    <a:ext cx="144792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905120" y="3429000"/>
            <a:ext cx="1904760" cy="1066680"/>
          </a:xfrm>
          <a:prstGeom prst="rightArrow">
            <a:avLst>
              <a:gd name="adj1" fmla="val 50000"/>
              <a:gd name="adj2" fmla="val 4464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7524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Times New Roman"/>
              </a:rPr>
              <a:t>Où est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le caf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67080" y="36576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ournez à droi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895480" y="22860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ialog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762120"/>
            <a:ext cx="7619760" cy="2253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xcusez – moi, monsie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Où est le cinéma, s’il vous plaî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e ciné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llez tout droit et tournez à gauch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er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3581280"/>
            <a:ext cx="7619760" cy="2253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xcusez – moi, mad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Où est la gare, s’il vous plaî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a ga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ournez à droite et tournez à gauch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erci. Au revo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62120" y="762120"/>
            <a:ext cx="7619760" cy="2253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xcusez – moi, monsie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Où est le collège, s’il vous plaî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e collèg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ournez à gauche et allez tout dro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er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3429000"/>
            <a:ext cx="7619760" cy="2253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xcusez – moi, mad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Où est la piscine, s’il vous plaî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a piscin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e ne sais p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er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600200" y="533520"/>
            <a:ext cx="6095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rench Pronunciation – Get it righ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Sounds like m</a:t>
            </a:r>
            <a:r>
              <a:rPr b="1" i="1" lang="en-GB" sz="2400" spc="-1" strike="noStrike">
                <a:solidFill>
                  <a:srgbClr val="000066"/>
                </a:solidFill>
                <a:latin typeface="Times New Roman"/>
              </a:rPr>
              <a:t>ay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or pl</a:t>
            </a:r>
            <a:r>
              <a:rPr b="1" i="1" lang="en-GB" sz="2400" spc="-1" strike="noStrike">
                <a:solidFill>
                  <a:srgbClr val="000066"/>
                </a:solidFill>
                <a:latin typeface="Times New Roman"/>
              </a:rPr>
              <a:t>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1676520"/>
            <a:ext cx="6248160" cy="49093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af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in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é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ourn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erm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nn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xcus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600200" y="533520"/>
            <a:ext cx="6095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rench Pronunciation – Get it righ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Ça se prononce com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1905120"/>
            <a:ext cx="3276720" cy="37969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éb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um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ép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a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029200" y="1905120"/>
            <a:ext cx="3276720" cy="37969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éprimand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gré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ép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a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omb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905120" y="1371600"/>
            <a:ext cx="49528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RAVO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08" dur="1" fill="hold"/>
                                  <p:tgtEl>
                                    <p:spTgt spid="1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438280" y="380880"/>
          <a:ext cx="426744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80880"/>
                    <a:ext cx="426744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1714680" y="495288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e caf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73480" y="380880"/>
            <a:ext cx="4395600" cy="3886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447920" y="4495680"/>
            <a:ext cx="624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e collèg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828800" y="380880"/>
          <a:ext cx="548640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80880"/>
                    <a:ext cx="54864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905120" y="4876920"/>
            <a:ext cx="533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e par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36680" y="380880"/>
          <a:ext cx="467064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6680" y="380880"/>
                    <a:ext cx="467064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752480" y="4648320"/>
            <a:ext cx="563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a pisci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2387520" y="609480"/>
          <a:ext cx="436716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7520" y="609480"/>
                    <a:ext cx="43671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752480" y="4343400"/>
            <a:ext cx="563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a ga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5029200" cy="4191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905120" y="4876920"/>
            <a:ext cx="533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a post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81080" y="561960"/>
            <a:ext cx="4953240" cy="340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57480" y="411480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a boulangeri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30T18:17:47Z</dcterms:created>
  <dc:creator>Phil. Drabble</dc:creator>
  <dc:description/>
  <dc:language>en-US</dc:language>
  <cp:lastModifiedBy>Ministry of Education</cp:lastModifiedBy>
  <dcterms:modified xsi:type="dcterms:W3CDTF">2009-05-18T22:24:53Z</dcterms:modified>
  <cp:revision>26</cp:revision>
  <dc:subject/>
  <dc:title>PowerPoint Presentation</dc:title>
</cp:coreProperties>
</file>